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3429"/>
        <c:axId val="87698668"/>
      </c:barChart>
      <c:catAx>
        <c:axId val="13393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98668"/>
        <c:crosses val="autoZero"/>
        <c:auto val="1"/>
        <c:lblAlgn val="ctr"/>
        <c:lblOffset val="100"/>
        <c:noMultiLvlLbl val="0"/>
      </c:catAx>
      <c:valAx>
        <c:axId val="87698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3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A72-4EA9-482A-B019-613CCD42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649-6F11-48F9-AF98-0B99DE44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6DD-26F9-4C01-B14E-5B67CB1B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E0E-CC4D-4942-ADE4-12452FF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8AE-1129-4856-888A-0A8E19E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84D-173A-40DA-B820-F50BE97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61E-B97A-4A8D-946F-547E7D2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61-C504-4D60-B8A2-EA6F07A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836-0E5D-44B3-91A7-438068F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934-5D7D-4CBE-96BC-DF8FBEF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1C9-88DF-4DD2-8430-51B40F0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047-339B-443F-9836-7CDA392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AC7D6-356B-431C-8F8F-3079347A4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