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37636"/>
        <c:axId val="15771818"/>
      </c:barChart>
      <c:catAx>
        <c:axId val="22037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1818"/>
        <c:crosses val="autoZero"/>
        <c:auto val="1"/>
        <c:lblAlgn val="ctr"/>
        <c:lblOffset val="100"/>
        <c:noMultiLvlLbl val="0"/>
      </c:catAx>
      <c:valAx>
        <c:axId val="15771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7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12A-9F89-4A40-973F-466D753F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4C7-EFC8-4995-8173-0FEB072F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6FB-9787-4E61-9614-37303EEB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1AB-B69C-43F7-BFFC-48AB6961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3EE-03B7-4038-B612-90B23DB0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A9B-635B-4316-BC0C-A5E91346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FD8-2C3B-4565-BE4D-F5229403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0B3-B0C0-48F1-9FFF-C8E466EA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D9A-C8B4-4DDE-B1E5-B421ADB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81F-2D97-41E9-9FCA-1B91A4D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300-0E9C-498B-9C0F-05739BB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D8D-F82C-4ABD-B42B-BB1A5D8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45DA-76E9-424B-A2CC-E09B3C43D0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