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26731"/>
        <c:axId val="64500169"/>
      </c:barChart>
      <c:catAx>
        <c:axId val="99826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00169"/>
        <c:crosses val="autoZero"/>
        <c:auto val="1"/>
        <c:lblAlgn val="ctr"/>
        <c:lblOffset val="100"/>
        <c:noMultiLvlLbl val="0"/>
      </c:catAx>
      <c:valAx>
        <c:axId val="64500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26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BE6-80C6-438A-A164-1E833C14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82C0-8839-481F-B81A-28FB19D5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A5D-DCF7-478E-B902-9A4C6B4C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A3F-2F23-40CE-B011-622CE63D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31D-3EA4-4747-AB1F-AC004DE8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2DB-2619-4337-ABD0-1BD464F9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DD24-84CF-48C6-B1DA-18CE06EC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FC0-5D34-4FEE-81BB-0BA4A53C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931-32B5-4263-B469-93C5FAA3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3B6-3F4B-4EC3-9C0B-78521950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27E-A80E-4627-9278-DB903D7B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053-0827-41DF-A956-220A2CBF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583B4-EB7F-4CEE-81F5-FFC290851E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