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5980615"/>
        <c:axId val="272825"/>
      </c:barChart>
      <c:catAx>
        <c:axId val="9598061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2825"/>
        <c:crosses val="autoZero"/>
        <c:auto val="1"/>
        <c:lblAlgn val="ctr"/>
        <c:lblOffset val="100"/>
        <c:noMultiLvlLbl val="0"/>
      </c:catAx>
      <c:valAx>
        <c:axId val="27282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98061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8527-D7C3-48D7-9209-205BB3335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DEC3-C5F9-4777-B03D-F826D0C42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2D0C-080C-4A3C-9D1B-F36B3DE84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AB48-AA27-4E25-84CD-6F219A84D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2011-67A3-456A-BED7-127D1D3FF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7709-D4E4-4305-ADC0-4668CB5D9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074B-FED5-4025-A42D-1BE7D273C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ECD6-3A68-4D33-8596-D3C48D5B2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79C4-0358-4ACE-AD03-EA087336E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A55C-0EFE-4932-A280-0B0D74347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197F-08A4-461C-A5DF-8CAA65460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F68A-27AE-4950-8B76-8A65ED409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EF77C6-1F33-4C53-B00E-9F5A5B39016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