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09265"/>
        <c:axId val="32955933"/>
      </c:barChart>
      <c:catAx>
        <c:axId val="54909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55933"/>
        <c:crosses val="autoZero"/>
        <c:auto val="1"/>
        <c:lblAlgn val="ctr"/>
        <c:lblOffset val="100"/>
        <c:noMultiLvlLbl val="0"/>
      </c:catAx>
      <c:valAx>
        <c:axId val="3295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09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C18-441A-4246-AE61-DDC3A507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A78-5753-4671-9E6D-F470F177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15A-E603-49A7-9CCE-771F82F1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A35-3DC6-4A21-AAF9-8B27EE28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D54-DD49-4988-A9E3-D43FD66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447-2F15-433B-A7B1-B40A34CF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8D4-4C35-4294-9216-4EBD99B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248-3D26-40D3-919E-C84A9410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68E-1907-4577-BCDD-2BD5091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910-5538-4C98-8DFF-8779443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170-884C-4DFD-91CE-25D7A1F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2E9-9930-49FC-9BEE-87ABBBB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647E4-9B3A-4863-AA32-8930494DC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