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73242"/>
        <c:axId val="88035316"/>
      </c:barChart>
      <c:catAx>
        <c:axId val="78873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35316"/>
        <c:crosses val="autoZero"/>
        <c:auto val="1"/>
        <c:lblAlgn val="ctr"/>
        <c:lblOffset val="100"/>
        <c:noMultiLvlLbl val="0"/>
      </c:catAx>
      <c:valAx>
        <c:axId val="88035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3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474-F794-4FCC-A060-A928655A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C2A-3605-4B27-86E7-7259DB86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407-A3BB-45DD-96B9-0D657973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8D0-2AB3-44A2-A71D-7508F8C7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C8C-CBE6-46D5-BAA4-F3108FC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A23-6259-448C-9860-F6FFE033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88F-4370-4EAF-95F8-CA1793B4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1F5-8263-4B32-9234-B9A869C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E4C-05C6-42F3-9F32-5CA3CB5C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ACB-AC3F-4385-9B01-5418C92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EE0-18D2-405C-8743-BD32925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D4A-70E2-4B9F-AF27-D2874B9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D48B7-0D0E-415C-89C7-14C0E3E1B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